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80A-0E70-4598-A3D6-D08A86A8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BBD-4BC7-4D9B-90DA-4F937FE7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6EE-C467-41C0-A8A7-97632067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2FD-48A9-4FA7-A6B1-2BF2FCE7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7979-0728-4979-BEF6-8CCE52F9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B788-13C4-4CD0-A242-0EF78099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AAE6-2A68-4C04-88CD-EC333208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2252-3114-4C69-99EA-8DF1E1D8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884E-F111-4EDA-A6FC-7A20CB0F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E28C-AA50-422C-829C-186923DE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0B26-ECB5-4DC3-B057-6AF7BFF0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86E-4E07-42F3-B705-DB2A4F3A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FA19-7792-4336-A24C-5332235A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E574-5CE3-4E31-A8AB-01962674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58AA-96B2-4307-AF55-B7BB7039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8679-BFF2-4E32-A3E9-143961FF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20BD-25FB-4B50-AFF1-4B3356DE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F26-407F-479C-B09C-1ABDFDC7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4C2-59ED-4941-8794-B39F5CE2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A64-FFA7-44AD-A926-318FC00C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5FC-2D30-4809-B74C-492692C2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4E3-4E35-4EB7-9A4F-842CC913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F83-0880-45D4-AA14-B3745A09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428-3D70-49B6-B1D4-32FC2A15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1d4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63F5-AD70-4CF0-81CC-6D7AAB0D2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fdbb31"/>
          </a:solidFill>
          <a:ln w="9360">
            <a:solidFill>
              <a:srgbClr val="fdb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93080" y="179280"/>
            <a:ext cx="1860480" cy="122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57578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5EFB-8374-4B62-A2A6-1AFA1812E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1d4d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d4d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1d4d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71640" y="441000"/>
            <a:ext cx="27730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5971"/>
                </a:solidFill>
                <a:latin typeface="Arial"/>
              </a:rPr>
              <a:t>EPIRB1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2920" y="1736640"/>
            <a:ext cx="49690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5971"/>
                </a:solidFill>
                <a:latin typeface="Arial"/>
              </a:rPr>
              <a:t>Your worldwide link to  emergency service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2235240" cy="785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-649440" y="484200"/>
            <a:ext cx="336096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8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proof to 10m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808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deployed antenna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8082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nna easily rewound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808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d4d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d4d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d4d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 emergency rescueME EPIRB1 provides three methods of communicating your location ensuring maximum chance of survival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Link via Satellite to emergency service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Homing Beacon to aid final location by Search and Rescue Craft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High intensity strob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3882960"/>
            <a:ext cx="900000" cy="698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3090960"/>
            <a:ext cx="900000" cy="698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5321160"/>
            <a:ext cx="9000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1280" y="1600200"/>
            <a:ext cx="8363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The EPIRB1 is the ideal safety product for smaller vessels.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Quick Release Mounting Bracket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asily packed in your grab bag or mounted for easy access to carry off in emergency.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114768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Whether you are at sea or on land, the </a:t>
            </a:r>
            <a:r>
              <a:rPr b="1" lang="en-US" sz="3200" spc="-1" strike="noStrike">
                <a:solidFill>
                  <a:srgbClr val="c1d4db"/>
                </a:solidFill>
                <a:latin typeface="Arial"/>
              </a:rPr>
              <a:t>rescueME EPIRB1</a:t>
            </a: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provides the reassurance that the emergency services can be alerted by the press of a button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Brochures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rescueME EPIRB1 Brochur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d4db"/>
                </a:solidFill>
                <a:latin typeface="Arial"/>
              </a:rPr>
              <a:t>Handy A6 fold out design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d4db"/>
                </a:solidFill>
                <a:latin typeface="Arial"/>
              </a:rPr>
              <a:t>Other languages available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24360" y="2097000"/>
            <a:ext cx="32086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e following marketing materials are Currently availabl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PIRB1 Dummie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uture marketing materials planned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PIRB1 Point of Sale Display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1d4d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d4db"/>
                </a:solidFill>
                <a:latin typeface="Arial"/>
              </a:rPr>
              <a:t>EPIRB1 is supplied in full colour retail pack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PIRB1 Adverts (Full, half and quarter page)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PIRB1 Poster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Web Presence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Ocean Signal Websit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Facebook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Cospas-Sarsat System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International Organisation to monitor 406MHz distress alert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Currently 6 LEOSAR satellites in polar orbi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6 GEOSAR satellite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00720" y="4365720"/>
            <a:ext cx="457488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5004000" cy="2509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Cospas-Sarsat System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LEOSAR satellites use Doppler processing to determine beacon position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Low accuracy, typically &lt;5nm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Slow, usually requiring two passe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Downlink not globally availabl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4365720"/>
            <a:ext cx="4574880" cy="21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Cospas-Sarsat System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GEOSAR provides near instant alerting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Coverage within ~70</a:t>
            </a:r>
            <a:r>
              <a:rPr b="0" lang="en-US" sz="2800" spc="-1" strike="noStrike">
                <a:solidFill>
                  <a:srgbClr val="c1d4db"/>
                </a:solidFill>
                <a:latin typeface="Arial"/>
                <a:ea typeface="Arial"/>
              </a:rPr>
              <a:t>°S and ~70°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57" name="" descr="GEOSARMarch2013"/>
          <p:cNvPicPr/>
          <p:nvPr/>
        </p:nvPicPr>
        <p:blipFill>
          <a:blip r:embed="rId1"/>
          <a:stretch/>
        </p:blipFill>
        <p:spPr>
          <a:xfrm>
            <a:off x="395280" y="3753000"/>
            <a:ext cx="5805360" cy="2896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68760" y="4365720"/>
            <a:ext cx="4575240" cy="21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EPIRB1 the world’s smallest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mergency Position Indicating Radio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% (typ) small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6360" y="2600280"/>
            <a:ext cx="826920" cy="642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other products approved to recognised standards (Aug 201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34320" y="2023920"/>
            <a:ext cx="22096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EPIRB Comparison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1633680"/>
          <a:ext cx="8351640" cy="3487680"/>
        </p:xfrm>
        <a:graphic>
          <a:graphicData uri="http://schemas.openxmlformats.org/drawingml/2006/table">
            <a:tbl>
              <a:tblPr/>
              <a:tblGrid>
                <a:gridCol w="1378080"/>
                <a:gridCol w="1163520"/>
                <a:gridCol w="1163520"/>
                <a:gridCol w="1162080"/>
                <a:gridCol w="1162080"/>
                <a:gridCol w="1160640"/>
                <a:gridCol w="1161720"/>
              </a:tblGrid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rescueME EPIR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SafeSea E100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McMurdo G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GME MT403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KTi SA1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ACR Globalfix P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SSP P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5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7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46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Aus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46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Fully retractable anten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Battery replacement interv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0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6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0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6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Operational li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hours 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 hours (ty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 hours 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 hours 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 hours 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66 channel G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55ch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12ch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16ch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16ch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Covered Lany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</a:tbl>
          </a:graphicData>
        </a:graphic>
      </p:graphicFrame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08360" y="1773360"/>
            <a:ext cx="216000" cy="79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740560" y="1700280"/>
            <a:ext cx="236520" cy="865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8064360" y="1511280"/>
            <a:ext cx="335160" cy="1054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384720" y="1736640"/>
            <a:ext cx="245880" cy="827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6200640"/>
            <a:ext cx="55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1d4db"/>
                </a:solidFill>
                <a:latin typeface="Arial"/>
              </a:rPr>
              <a:t>* items include service and battery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492360" y="483408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0000" y="48340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832360" y="48340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172360" y="48340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303640" y="4545000"/>
            <a:ext cx="250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303640" y="4834080"/>
            <a:ext cx="250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303640" y="2133720"/>
            <a:ext cx="223560" cy="431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985080" y="1692360"/>
            <a:ext cx="141120" cy="907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136000" y="6345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303640" y="3357720"/>
            <a:ext cx="250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2728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328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5928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91200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13600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985080" y="454500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985080" y="48340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2828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bb31"/>
                </a:solidFill>
                <a:latin typeface="Arial"/>
              </a:rPr>
              <a:t>rescueME EPIRB1</a:t>
            </a:r>
            <a:endParaRPr b="0" lang="en-US" sz="4800" spc="-1" strike="noStrike">
              <a:solidFill>
                <a:srgbClr val="c1d4db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d4db"/>
                </a:solidFill>
                <a:latin typeface="Arial"/>
              </a:rPr>
              <a:t>The World’s smalles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mergency Position Indicating Radio Beacon </a:t>
            </a:r>
            <a:endParaRPr b="0" lang="en-US" sz="40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is device has not been authorized as required by the rules of the Federal Communications Commission. This device is not, and may not be, offered for sale or lease, or</a:t>
            </a:r>
            <a:r>
              <a:rPr b="0" i="1" lang="en-US" sz="3200" spc="-1" strike="noStrike">
                <a:solidFill>
                  <a:srgbClr val="c1d4db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old or leased, until</a:t>
            </a:r>
            <a:r>
              <a:rPr b="0" i="1" lang="en-US" sz="3200" spc="-1" strike="noStrike">
                <a:solidFill>
                  <a:srgbClr val="c1d4db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authorization is obtained. 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of October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% (typ) smaller by volume than the competitors 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6532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And Lighter!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65320">
              <a:spcBef>
                <a:spcPts val="601"/>
              </a:spcBef>
              <a:buClr>
                <a:srgbClr val="c1d4db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GB" sz="2400" spc="-1" strike="noStrike">
                <a:solidFill>
                  <a:srgbClr val="c1d4db"/>
                </a:solidFill>
                <a:latin typeface="Arial"/>
              </a:rPr>
              <a:t>The world’s most compact EPIRB can always be on hand, as its small size allows it to be easily placed in a grab bag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1476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EPIRB1 the world’s smallest Emergency Position Indicating Radio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30% (typ) small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year battery lif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6360" y="326880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6360" y="260496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34320" y="2022480"/>
            <a:ext cx="2209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year battery lif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903240" indent="-27288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State of the art storage lif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Reduced cost of ownership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903240" indent="-27288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Long Life – Less Hassl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903240" indent="-27288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Battery can be replaced at recognised battery replacement centres when expired or used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381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1476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EPIRB1 the world’s smallest Emergency Position Indicating Radio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30% (typ) small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10 year battery lif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 year warranty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6360" y="3959280"/>
            <a:ext cx="826920" cy="641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6360" y="326880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6360" y="2604960"/>
            <a:ext cx="826920" cy="642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other products approved to recognised standards (Aug 201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934320" y="2022480"/>
            <a:ext cx="2209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year warranty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732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Gives the customer confidence that it will work when needed.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732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Warranty, subject to terms and conditions, covers manufacturing defect in material and workmanship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381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1509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EPIRB1 the world’s smallest Emergency Position Indicating Radio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30% (typ) small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10 year battery lif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5 year warranty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sily extended antenna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6360" y="4653000"/>
            <a:ext cx="826920" cy="641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6360" y="3968640"/>
            <a:ext cx="826920" cy="64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76360" y="328464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76360" y="2600280"/>
            <a:ext cx="826920" cy="642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other products approved to recognised standards (Aug 201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934320" y="2023920"/>
            <a:ext cx="2209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Extended Antenna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73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ll out to activate or test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73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y rewind after us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381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150920" cy="893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12000" y="2313000"/>
            <a:ext cx="2808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2:16:40Z</dcterms:created>
  <dc:creator>David Sheekey</dc:creator>
  <dc:description/>
  <dc:language>en-US</dc:language>
  <cp:lastModifiedBy>David</cp:lastModifiedBy>
  <dcterms:modified xsi:type="dcterms:W3CDTF">2014-10-21T13:27:44Z</dcterms:modified>
  <cp:revision>141</cp:revision>
  <dc:subject/>
  <dc:title>rescueME PLB1</dc:title>
</cp:coreProperties>
</file>